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EBE9-F41A-4083-8A69-AC8D9A933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D72B-858E-4294-B723-056CCEF89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F69F-A7DB-4AD6-AA24-8CCCA6AB0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C256-67C7-43E9-868A-4D58EECF0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750-DE8E-407F-9108-8472B18F8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78C-5267-4164-B2A4-37D308EE4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80A0-385D-44E4-9F86-0641544DE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A3E-ED2F-4026-92A1-C04FC0FA4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E68-4949-4374-B207-9B4226730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DFAF-E284-4B75-AF3D-473DE5F12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027F-0333-40C0-B407-7EF9F41CF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03B5-0AF7-4B62-A214-042FD5966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A338-9D26-40C8-A1F2-4E80CD001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2286-2A49-4C22-B1B5-A0C30609F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FE9-0606-41EC-A5E1-3F3912989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B295-1CB8-4521-844B-D1E0F3600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B5A-0BB1-4390-AE78-0C87FAEE60D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94C-5F22-427F-A19F-5EB2C4FF6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FEDF-FA51-446D-9A37-4331A1638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37B-CEC0-4455-954E-769CFE142C6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8555-CCA7-41F9-AD0E-A65DCB58AEF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11C4-5F0B-4EF6-B009-B38C83D78D7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778D-EFEE-4FF1-93D4-D7A411FDC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60FC-5246-4F1A-B24E-13698EAC0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C9DE-CC54-4FE1-B9AC-79B98CE0E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44ED-AF0E-43B5-A6E2-20D3468F0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895-44A0-4AA8-89B8-34ADFE2E5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427C-4B0B-4CD1-B9C8-923963290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F15-973E-4995-A172-560DB853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A35-4356-424C-B8D4-FED5E03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D97-98BE-47B2-92F5-AE1C7225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BD3-A321-407F-A5FF-C9990028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796C-35EC-48CF-9325-7A3C72E9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FCAB-22D3-47E8-A199-6FCC77B4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1605-A1EE-4FAD-83C8-B4F155D7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E6CB-E69F-4B6F-99AD-DB689064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158-F343-4802-898B-F08FB0FD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828C-4604-47E5-BB32-A170E56D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85BF-6F73-4A26-8715-E7BDCBD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485-DE23-4AA2-AA5A-3DAB6D8F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EBCB-3C26-4646-B3A8-43C1117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F9EE-E2FB-49D2-8C97-28BBF84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B041-E0F6-4BEE-AE54-53CD9E2C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54E6-01C4-46C3-AA0A-38245D59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77BA-9BAF-4C05-B299-E4CD4297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3FF42-50F0-410F-A958-137EDBAB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F2D1E-8490-4446-A7AC-C045E1BD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D64FA-B76E-41C4-9A64-6475B933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1F8AC-A942-4C82-B10D-492E6700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53413-AC2E-4BAA-84D7-57F0C1B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809-42F4-4193-B901-A29A7F7A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337EF-6E59-4CCB-A9C1-AC61B3F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2B080-21D7-4731-B520-AE1CE14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ECB65-0791-426E-B938-42F3409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C075F-212D-4A2F-80F7-9AE538E4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5CFFB-2A25-40D5-B542-94AB317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E3CB8-D7BC-4374-A98C-87F0B6CF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E466F-D729-4F70-A8A6-C46FB5C5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FC6-D7DE-4BE8-8291-6025958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197-96AB-4D1F-93F7-D7826216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99D-94A9-4B72-A644-4A4218A2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0BE-F54A-49C7-9E04-046C928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5D0-940C-4B41-9C80-2CDD1D78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F15-5F2E-4317-9215-DAF06E3C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0B7E-0FCF-429D-99C8-C0AABAAB5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1BA6-A876-4F34-A738-B285F1923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4D37-803A-40DB-A29E-F21CDD33A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eltx.com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wales/audiovideo/sites/about/pages/howto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Creativity through I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63244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en.yager@det.nsw.edu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28600" y="228600"/>
            <a:ext cx="2286000" cy="5205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895480" y="228600"/>
            <a:ext cx="175284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029200" y="228600"/>
            <a:ext cx="137160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781680" y="228600"/>
            <a:ext cx="213372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7"/>
          <p:cNvSpPr/>
          <p:nvPr/>
        </p:nvSpPr>
        <p:spPr>
          <a:xfrm>
            <a:off x="25909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8"/>
          <p:cNvSpPr/>
          <p:nvPr/>
        </p:nvSpPr>
        <p:spPr>
          <a:xfrm>
            <a:off x="4724280" y="38088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9"/>
          <p:cNvSpPr/>
          <p:nvPr/>
        </p:nvSpPr>
        <p:spPr>
          <a:xfrm>
            <a:off x="64771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14800" cy="868320"/>
          </a:xfrm>
          <a:prstGeom prst="rect">
            <a:avLst/>
          </a:prstGeom>
          <a:gradFill rotWithShape="0">
            <a:gsLst>
              <a:gs pos="0">
                <a:srgbClr val="96c1c1"/>
              </a:gs>
              <a:gs pos="100000">
                <a:srgbClr val="e1ebe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very community has a memory of itself.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 living memory, an awareness of a collective identity woven of a thousand storie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ybrid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2345232195_17a7f58d6c.jpg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572000" y="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rratives for the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n criteri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dienc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 structure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s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acter &amp; setting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cabulary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hesion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agraphing: 0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tence structur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nctuation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lling: 0- 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Naplan_Story.jpg"/>
          <p:cNvPicPr/>
          <p:nvPr/>
        </p:nvPicPr>
        <p:blipFill>
          <a:blip r:embed="rId1"/>
          <a:stretch/>
        </p:blipFill>
        <p:spPr>
          <a:xfrm>
            <a:off x="4876920" y="1039680"/>
            <a:ext cx="4267080" cy="5818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naplan.edu.au/verve/_resources/NAPLAN_banner5_0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3581280" cy="944640"/>
          </a:xfrm>
          <a:prstGeom prst="rect">
            <a:avLst/>
          </a:prstGeom>
          <a:gradFill rotWithShape="0">
            <a:gsLst>
              <a:gs pos="0">
                <a:srgbClr val="7d866b"/>
              </a:gs>
              <a:gs pos="100000">
                <a:srgbClr val="d8e7b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600" y="14475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, engage and affect the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and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phistication: A twist, irony, subversion through the un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001359_20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3886200" cy="868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sation of a narrativ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, complication, resolution, c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shback, different perspectives, circular, parallel, stream of consciousness, moral,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writing.png"/>
          <p:cNvPicPr/>
          <p:nvPr/>
        </p:nvPicPr>
        <p:blipFill>
          <a:blip r:embed="rId1"/>
          <a:stretch/>
        </p:blipFill>
        <p:spPr>
          <a:xfrm>
            <a:off x="4419720" y="1440"/>
            <a:ext cx="47242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886200" cy="792000"/>
          </a:xfrm>
          <a:prstGeom prst="rect">
            <a:avLst/>
          </a:prstGeom>
          <a:gradFill rotWithShape="0">
            <a:gsLst>
              <a:gs pos="0">
                <a:srgbClr val="967865"/>
              </a:gs>
              <a:gs pos="100000">
                <a:srgbClr val="ffd0b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56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reation, selection and craf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orld view,  maturity, extended metaphor, satire, motif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grandpa_TVs_web.jpg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www.pamalam.co.uk/MUSIC/vocabulary%20abc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267080" cy="114300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nge &amp; precision of language cho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figurative and sound devices, powerful verbs, adverbs and adjectives, reflects the gen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ohesion &amp; Digital Story 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nnecting, linking &amp; developing the narrativ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ophisticated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ffective connectives, continuity of ideas, recurrent 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igital Storytelling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Focus on topic sentences, connectives and include as part of the assessment task the need for a leit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Digital Narr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Cognitive Apprenticeship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practicing real-world work of digital communic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Creativity and Inventive Thinking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creating multi-sensory experiences for oth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Higher Order Thinking Skills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going beyond existing information to add personal meaning and understand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Enduring Understanding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by telling the story of what you know and understand for others, authors deepen their own self-meaning of the topic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Visual Literacy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using images to show, not tell, the narrative sto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Technical Literacy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mastering the craftsmanship of applying the technology tools to create powerful communication, not to just use the tools, but to mix and dance the media into illuminated understanding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04920" y="1066680"/>
            <a:ext cx="85341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Information (Media) Literacy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 thinking, reading, writing, and designing effective media inform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. Effective Communication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 reading and writing information beyond wo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Teaming and Collaboration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 growing skills through practiced opportunities to co-produce group pro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Project Management Mentality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practice time management of complex, involved tasks to successfully meet deadlines modelling real-world tas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Exploring Affinity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when students create meaningful, engaged work, they discover themselves as successful learn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Digital Narr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142560"/>
            <a:ext cx="3733920" cy="69516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gital Storytel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3810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Everyone has a story to tell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digital time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life-st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 podca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ple end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ternative perspec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oundscap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digital po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news re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travel tale: Google Ear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suitcase-girl_7529636_250%20image_tcm2-12431"/>
          <p:cNvPicPr/>
          <p:nvPr/>
        </p:nvPicPr>
        <p:blipFill>
          <a:blip r:embed="rId1"/>
          <a:stretch/>
        </p:blipFill>
        <p:spPr>
          <a:xfrm>
            <a:off x="405144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2860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500" spc="-1" strike="noStrike">
                <a:solidFill>
                  <a:srgbClr val="000000"/>
                </a:solidFill>
                <a:latin typeface="Calibri"/>
              </a:rPr>
              <a:t>Creativity is generating new ideas that originate from the known. It is a willingness to play with ideas and possibilities, and have a flexibility of outlook. A creative teaching approach in English focuses on getting students to explore, change, or reapply existing ideas, generate possibilities and look for many right answers rather than just one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716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udents create a fol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aft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or shoot the images that enhance the text or film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rd reading of text on MP3 or micro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wnload any sounds or music or video cl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610x.jpg"/>
          <p:cNvPicPr/>
          <p:nvPr/>
        </p:nvPicPr>
        <p:blipFill>
          <a:blip r:embed="rId1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born digital.jpg"/>
          <p:cNvPicPr/>
          <p:nvPr/>
        </p:nvPicPr>
        <p:blipFill>
          <a:blip r:embed="rId2"/>
          <a:stretch/>
        </p:blipFill>
        <p:spPr>
          <a:xfrm>
            <a:off x="4775040" y="320040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716040"/>
          </a:xfrm>
          <a:prstGeom prst="rect">
            <a:avLst/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11430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Calibri"/>
              </a:rPr>
              <a:t>Students use a storyboard to plan story, transitions and effec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eltx.com/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asy to use free software that has outstanding storyboard models and scaffolds for stud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cartoon computer.bmp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632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artoon102.jpg"/>
          <p:cNvPicPr/>
          <p:nvPr/>
        </p:nvPicPr>
        <p:blipFill>
          <a:blip r:embed="rId3"/>
          <a:stretch/>
        </p:blipFill>
        <p:spPr>
          <a:xfrm>
            <a:off x="4121280" y="3657600"/>
            <a:ext cx="5022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020600"/>
          </a:xfrm>
          <a:prstGeom prst="rect">
            <a:avLst/>
          </a:prstGeom>
          <a:gradFill rotWithShape="0">
            <a:gsLst>
              <a:gs pos="0">
                <a:srgbClr val="b0cffb"/>
              </a:gs>
              <a:gs pos="100000">
                <a:srgbClr val="e6eff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bc.co.uk/wales/audiovideo/sites/about/pages/howto.sht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digi-tales.org/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photobus.co.uk/index.php?id=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changinglives.com.au/2008/04/abrar-autumn-and-i.html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http://www.dipity.com/ - Digital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filmplus.org/faces/shakespeare1.gif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6891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ttp://www.greenfield.durham.sch.uk/images/shakespeare.gif"/>
          <p:cNvPicPr/>
          <p:nvPr/>
        </p:nvPicPr>
        <p:blipFill>
          <a:blip r:embed="rId2"/>
          <a:stretch/>
        </p:blipFill>
        <p:spPr>
          <a:xfrm>
            <a:off x="0" y="5486400"/>
            <a:ext cx="1328760" cy="1371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Reading Shakespeare requires the imagination and daring capacity to entertain ambiguity and the paradoxes of human life and history…to imagine the complex lives of powerfully historicized human beings”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tzger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80520" y="274320"/>
            <a:ext cx="495324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Creativity through Shakespea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Shakespeare2.gif"/>
          <p:cNvPicPr/>
          <p:nvPr/>
        </p:nvPicPr>
        <p:blipFill>
          <a:blip r:embed="rId1"/>
          <a:stretch/>
        </p:blipFill>
        <p:spPr>
          <a:xfrm>
            <a:off x="46530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72428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5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concep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ques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research: locate, evaluate and synthesi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pposi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http://www.greenfield.durham.sch.uk/images/shakespeare.gif"/>
          <p:cNvPicPr/>
          <p:nvPr/>
        </p:nvPicPr>
        <p:blipFill>
          <a:blip r:embed="rId1"/>
          <a:stretch/>
        </p:blipFill>
        <p:spPr>
          <a:xfrm>
            <a:off x="4572000" y="2454120"/>
            <a:ext cx="3238560" cy="3341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458200" cy="792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people continue to reject Shakespeare’s pl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survey: http://www.zoomerang.com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x p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oduc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, Ning, Moodle, short film, digital repo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277560"/>
            <a:ext cx="3857400" cy="941400"/>
          </a:xfrm>
          <a:prstGeom prst="rect">
            <a:avLst/>
          </a:prstGeom>
          <a:solidFill>
            <a:srgbClr val="ebd68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1920" y="1371240"/>
            <a:ext cx="4133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presentation of a Shakespearian sonnet or a charac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io box for a character in power point or Photo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ual made in Photo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pbs.org/shakespeare/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http://www.umass.edu/rso/guild/macbeth.jpg"/>
          <p:cNvPicPr/>
          <p:nvPr/>
        </p:nvPicPr>
        <p:blipFill>
          <a:blip r:embed="rId1"/>
          <a:stretch/>
        </p:blipFill>
        <p:spPr>
          <a:xfrm>
            <a:off x="4373640" y="0"/>
            <a:ext cx="477036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brotherb.com/sitebuilder/images/Golden_Crown-760x613.jpg"/>
          <p:cNvPicPr/>
          <p:nvPr/>
        </p:nvPicPr>
        <p:blipFill>
          <a:blip r:embed="rId2"/>
          <a:stretch/>
        </p:blipFill>
        <p:spPr>
          <a:xfrm rot="20289000">
            <a:off x="6784560" y="4617720"/>
            <a:ext cx="2117880" cy="170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See full size image"/>
          <p:cNvPicPr/>
          <p:nvPr/>
        </p:nvPicPr>
        <p:blipFill>
          <a:blip r:embed="rId3"/>
          <a:stretch/>
        </p:blipFill>
        <p:spPr>
          <a:xfrm>
            <a:off x="4572000" y="2714760"/>
            <a:ext cx="1339920" cy="1785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://shakespeare.learnhub.com/lesson/pages/5169-macbeth-act-five-scene-four/photos/13620-medium.jpg"/>
          <p:cNvPicPr/>
          <p:nvPr/>
        </p:nvPicPr>
        <p:blipFill>
          <a:blip r:embed="rId4"/>
          <a:stretch/>
        </p:blipFill>
        <p:spPr>
          <a:xfrm>
            <a:off x="4429080" y="5643720"/>
            <a:ext cx="1257480" cy="83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B024414.jpg"/>
          <p:cNvPicPr/>
          <p:nvPr/>
        </p:nvPicPr>
        <p:blipFill>
          <a:blip r:embed="rId5"/>
          <a:stretch/>
        </p:blipFill>
        <p:spPr>
          <a:xfrm rot="622800">
            <a:off x="7715160" y="3143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000" y="152280"/>
            <a:ext cx="4176720" cy="8654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Rhetor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Youtube: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enry V’s Saint Crispin’s Day Spee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 Barack Obama’s victory spe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dcas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iginal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dacity/Garage Band/Adobe Soundbooth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tical commentary on a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0" descr="http://i.dailymail.co.uk/i/pix/2008/10/26/article-1080764-02419940000005DC-221_468x380.jpg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3643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http://www1.pictures.gi.zimbio.com/Barack+Obama+Campaigns+Mississippi+Ahead+State+6UBC3SH_P1Ul.jpg"/>
          <p:cNvPicPr/>
          <p:nvPr/>
        </p:nvPicPr>
        <p:blipFill>
          <a:blip r:embed="rId2"/>
          <a:stretch/>
        </p:blipFill>
        <p:spPr>
          <a:xfrm>
            <a:off x="4694400" y="3643200"/>
            <a:ext cx="4449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5480" y="277560"/>
            <a:ext cx="4071960" cy="936360"/>
          </a:xfrm>
          <a:prstGeom prst="rect">
            <a:avLst/>
          </a:prstGeom>
          <a:solidFill>
            <a:srgbClr val="edc99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4181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000000"/>
                </a:solidFill>
                <a:latin typeface="Calibri"/>
              </a:rPr>
              <a:t>Textual intervention: 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Insert comments and track changes on an extract from a play or sonne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000000"/>
                </a:solidFill>
                <a:latin typeface="Calibri"/>
              </a:rPr>
              <a:t>Play script: 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http://celtx.com/ 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bs.org/shakespeare/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000000"/>
                </a:solidFill>
                <a:latin typeface="Calibri"/>
              </a:rPr>
              <a:t>Computer game: 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Flash animation or Kahootz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6" descr="chargilbert"/>
          <p:cNvPicPr/>
          <p:nvPr/>
        </p:nvPicPr>
        <p:blipFill>
          <a:blip r:embed="rId1"/>
          <a:stretch/>
        </p:blipFill>
        <p:spPr>
          <a:xfrm>
            <a:off x="4465800" y="0"/>
            <a:ext cx="4678200" cy="3857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akg9FK-1415-10-25-A1_big.jpg"/>
          <p:cNvPicPr/>
          <p:nvPr/>
        </p:nvPicPr>
        <p:blipFill>
          <a:blip r:embed="rId2"/>
          <a:stretch/>
        </p:blipFill>
        <p:spPr>
          <a:xfrm>
            <a:off x="4476600" y="3786120"/>
            <a:ext cx="4667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045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iki Book Club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key issues concerning creativity is the ability to explore multiple ideas quickly. A wiki allows a learner to quickly post an idea and let other people comment o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4419720" cy="11397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Creativity through Literature - </a:t>
            </a:r>
            <a:r>
              <a:rPr b="1" i="1" lang="en-AU" sz="29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http://www.wakefield.gov.uk/NR/rdonlyres/EF0F1C1B-4B1A-4ED6-A7E9-F1656C4F60A2/0/Fowler_JaneAustenBookClub.jpg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Title 4"/>
          <p:cNvGrpSpPr/>
          <p:nvPr/>
        </p:nvGrpSpPr>
        <p:grpSpPr>
          <a:xfrm>
            <a:off x="158760" y="189000"/>
            <a:ext cx="3949560" cy="847800"/>
            <a:chOff x="158760" y="189000"/>
            <a:chExt cx="3949560" cy="847800"/>
          </a:xfrm>
        </p:grpSpPr>
        <p:pic>
          <p:nvPicPr>
            <p:cNvPr id="141" name="Title 4" descr=""/>
            <p:cNvPicPr/>
            <p:nvPr/>
          </p:nvPicPr>
          <p:blipFill>
            <a:blip r:embed="rId1"/>
            <a:stretch/>
          </p:blipFill>
          <p:spPr>
            <a:xfrm>
              <a:off x="158760" y="189000"/>
              <a:ext cx="3949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8600" y="349200"/>
              <a:ext cx="38098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Calibri"/>
                </a:rPr>
                <a:t>CREATIVITY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Content Placeholder 3" descr="Picture2.pn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generating many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EXI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hifting perspective eas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RIGINA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conceiving something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URPOSE- Vi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UDIENCE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LABOR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building on other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VALUAT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tical ref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4419360" cy="124596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reativity through Literature </a:t>
            </a:r>
            <a:br>
              <a:rPr sz="2800"/>
            </a:br>
            <a:r>
              <a:rPr b="1" i="1" lang="en-AU" sz="28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Google Lit Trip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lore novel, play or poetry settings or go on a qu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d images, commentary and key qu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a unique Lit Trip for an original story, play or poem - http://www.googlelittrips.org/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5" descr="http://www.bikerwolf.com/098.jpg"/>
          <p:cNvPicPr/>
          <p:nvPr/>
        </p:nvPicPr>
        <p:blipFill>
          <a:blip r:embed="rId1"/>
          <a:stretch/>
        </p:blipFill>
        <p:spPr>
          <a:xfrm>
            <a:off x="4915080" y="0"/>
            <a:ext cx="42289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5"/>
          <p:cNvSpPr/>
          <p:nvPr/>
        </p:nvSpPr>
        <p:spPr>
          <a:xfrm>
            <a:off x="4952880" y="152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by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http://www.draculas.info/_img/gallery/dracula_book_cover_1902_doubleday_89.jpg"/>
          <p:cNvPicPr/>
          <p:nvPr/>
        </p:nvPicPr>
        <p:blipFill>
          <a:blip r:embed="rId2"/>
          <a:stretch/>
        </p:blipFill>
        <p:spPr>
          <a:xfrm rot="20931600">
            <a:off x="4833720" y="4305240"/>
            <a:ext cx="1385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Giving form to our innate human creativity is what defines us to ourselves and the world. The lasting value and evidence of a civilisation are its artistic output and the ingenuity that comes from applying creativity to the whole range of human endeavour”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(Cate Blanchett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572000" cy="79200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rtin Westwell stresses the importance of unstructured, unfettered learning to stimulate creativity, but we ha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s – Naplan, HSC, but wait there’s mor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yllabus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ental and community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search on student out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eaching to the exam requirements rather than the course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benjaminlipman.files.wordpress.com/2007/08/berlinwall1.gif"/>
          <p:cNvPicPr/>
          <p:nvPr/>
        </p:nvPicPr>
        <p:blipFill>
          <a:blip r:embed="rId1"/>
          <a:stretch/>
        </p:blipFill>
        <p:spPr>
          <a:xfrm>
            <a:off x="4959360" y="0"/>
            <a:ext cx="418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16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2f2f2"/>
                </a:solidFill>
                <a:latin typeface="Calibri"/>
              </a:rPr>
              <a:t>A Way Forwar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486400" cy="5486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yle and Colvin’s research concludes that the brain is phenomenally plastic, and that we construct ourselves through behaviour. As Coyle observes, it’s not who you are, it’s what you 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ttie &amp; Dinham’s research attests to the significance of direct instruction and scaffolding the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reativity is connected to what is already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ight Arrow 4"/>
          <p:cNvSpPr/>
          <p:nvPr/>
        </p:nvSpPr>
        <p:spPr>
          <a:xfrm>
            <a:off x="5105520" y="3657600"/>
            <a:ext cx="13716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6629400" y="1295280"/>
            <a:ext cx="2209680" cy="497268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ry Creativity &amp;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ep knowledge &amp; deep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grate problematic knowledge and include student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cess first then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eate the environment for crea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Title 1"/>
          <p:cNvGrpSpPr/>
          <p:nvPr/>
        </p:nvGrpSpPr>
        <p:grpSpPr>
          <a:xfrm>
            <a:off x="219240" y="219240"/>
            <a:ext cx="4060800" cy="860400"/>
            <a:chOff x="219240" y="219240"/>
            <a:chExt cx="4060800" cy="860400"/>
          </a:xfrm>
        </p:grpSpPr>
        <p:pic>
          <p:nvPicPr>
            <p:cNvPr id="153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19240"/>
              <a:ext cx="4060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28600" y="22860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reativit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2286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e questions or state learning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 explicitly the skills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open-ended, authentic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risk-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1914296-2-imagine-creativity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3962160" cy="1143000"/>
          </a:xfrm>
          <a:prstGeom prst="rect">
            <a:avLst/>
          </a:prstGeom>
          <a:solidFill>
            <a:srgbClr val="e86e5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5998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with concepts not tex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pck2017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digital.GIF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92000"/>
          </a:xfrm>
          <a:prstGeom prst="rect">
            <a:avLst/>
          </a:prstGeom>
          <a:solidFill>
            <a:srgbClr val="a9d7f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IC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26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oday’s digital kids think of information and communications technology (ICT) as something akin to oxygen:  They expect it, it’s what they breathe, and it’s how they live;  They use ICT to meet, play, date, and learn;  It’s an integral part of their social life;   It’s how they acknowledge each other and form their personal identities’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John Seely-Brow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arning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Students often find it difficult to maintain balance between the design and technology aspects of the creative learning process. Technology can become an obstacle to learning, especially when a student is first exposed to a new and/or novel technology. The student may become too focused on the technology and neglect the need for developing creative ideas…creativity drives technology” (Mohl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0:37:35Z</dcterms:created>
  <dc:creator>Karen</dc:creator>
  <dc:description/>
  <dc:language>en-US</dc:language>
  <cp:lastModifiedBy>Karen Yager</cp:lastModifiedBy>
  <dcterms:modified xsi:type="dcterms:W3CDTF">2009-05-08T12:37:04Z</dcterms:modified>
  <cp:revision>162</cp:revision>
  <dc:subject/>
  <dc:title>Slide 1</dc:title>
</cp:coreProperties>
</file>